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8752-0E9C-449B-86BC-D678AA1A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F46F-1C05-4CD7-92BF-9DC33AF2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E830-DABE-473A-A46E-847CF686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4AA1-BF0E-427B-999C-CDCDA8B0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2620-76B9-4555-A33C-3DE318D7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86AE-D946-48C1-AE32-93C5E20B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9774-8BC6-42BF-B79E-4714C39E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872E-238B-424C-92C5-86AD311D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BF89-5B16-4939-99AD-FFD49025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F731-61BF-42D2-87C9-E8FAEAAD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ACD4-8F19-4E2B-A414-B4ED3E1D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9C50-5890-4693-9A04-31416EF3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03BB-EF45-41FD-B0EC-1D6C2AF4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542B-4A39-4FD8-A9A0-086D87D7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1F9F-A136-419F-BFAE-B775D7A1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ACFB-778C-49F6-A7AB-FC6BBEF3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315D-01C3-473B-B7D4-18628FBA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E060-841B-4FC5-A2AD-A269BAEA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E8DB-7E58-4528-BCCB-0C40789C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6798-7876-4BF1-9D87-35EACA35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67D3-AD81-4A44-BBD4-9EBEA6D1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C34F-4B1B-429E-A09A-325D992F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E1D0-9B79-4C1D-BC0C-AF58AB0F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41D7-8794-4ED2-A328-2332759A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A1BB-8CAE-4683-A2FB-3B899E779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592E-9A4F-498F-A01D-2D1A82C83F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685800" y="1523880"/>
          <a:ext cx="7775640" cy="46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775640" cy="46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903960" y="1752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65-6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-7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87640" y="1752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-7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95680" y="1752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-8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43600" y="1752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-8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918440" y="3168720"/>
            <a:ext cx="566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r with this and Or with th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909440" y="3168720"/>
            <a:ext cx="35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ither and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900440" y="3168720"/>
            <a:ext cx="205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e?, Pro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906560" y="3168720"/>
            <a:ext cx="315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befo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forw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906920" y="3168720"/>
            <a:ext cx="58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ity of Chief in importance, The buil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901880" y="3168720"/>
            <a:ext cx="36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Capital and Capito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914120" y="3168720"/>
            <a:ext cx="66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od is a(n) blank while well is generally a(n) bl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905480" y="3168720"/>
            <a:ext cx="46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an adjective and an adver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1890000" y="3168720"/>
            <a:ext cx="676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be happy? To be in good health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1909440" y="3168720"/>
            <a:ext cx="361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feel go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feel wel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1900440" y="316872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Forms of occ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1904400" y="3168720"/>
            <a:ext cx="71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al right or privilege because of age, rank, 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1898640" y="316872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Prerog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Box 6"/>
          <p:cNvSpPr/>
          <p:nvPr/>
        </p:nvSpPr>
        <p:spPr>
          <a:xfrm>
            <a:off x="931320" y="2895480"/>
            <a:ext cx="68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name of the clinic in Rochester, Minneso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1900800" y="316872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Mayo Clin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1919880" y="3168720"/>
            <a:ext cx="561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self, thierself, theirselves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ourselv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915560" y="3168720"/>
            <a:ext cx="487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words to avoi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1890000" y="316872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art, Al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898280" y="3168720"/>
            <a:ext cx="27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leave and l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460800" y="2286000"/>
            <a:ext cx="86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way to distinguish between already and all ready is to substit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1896840" y="316872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rea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6"/>
          <p:cNvSpPr/>
          <p:nvPr/>
        </p:nvSpPr>
        <p:spPr>
          <a:xfrm>
            <a:off x="785880" y="2438280"/>
            <a:ext cx="65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occurred, occurring, occurrences, oc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1896840" y="3168720"/>
            <a:ext cx="408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receive willingl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exclude or bu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1894320" y="3168720"/>
            <a:ext cx="300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ccep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excep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1905840" y="316872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ck slice of beef, Social Blunder, unpleasantly famili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2006640" y="3168720"/>
            <a:ext cx="61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let mignon, Faux pas, Déjà V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0" y="22860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ivate conversation, sudden decisive exercise of authority in politics, all tog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1924920" y="3168720"/>
            <a:ext cx="62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ête-à-tête, coup d etat, en m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1900440" y="3168720"/>
            <a:ext cx="25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an? Th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6"/>
          <p:cNvSpPr/>
          <p:nvPr/>
        </p:nvSpPr>
        <p:spPr>
          <a:xfrm>
            <a:off x="1295280" y="228600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compare 2 or more th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tells wh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1910880" y="3168720"/>
            <a:ext cx="70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nail Prepared for food, coffee and milk, flaming liqu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094760" y="3429000"/>
            <a:ext cx="57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scargot, Café au lait, Flamb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105920" y="2895480"/>
            <a:ext cx="70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mething that completes, and Prai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457200" y="23623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rved in the juice obtained from roasting; fashionable, stylish, topped with ice cream; according to a menu that prices each item separate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1870920" y="3168720"/>
            <a:ext cx="37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 jus, A la mode, A la ca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929240" y="3168720"/>
            <a:ext cx="518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word, number, verse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 sentence that reads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me forward or backw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1912680" y="3168720"/>
            <a:ext cx="412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Palindr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890360" y="316872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1888200" y="316872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t tense of L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1890720" y="31687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1888920" y="316872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t tense of p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1882440" y="3168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ress wishes and signal hypothetical situa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1888560" y="316872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juncti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956160" y="3048120"/>
            <a:ext cx="748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Complement and Compli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1880640" y="3168720"/>
            <a:ext cx="69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oad references used carelessly make writing uncle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886040" y="3168720"/>
            <a:ext cx="401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oid use 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h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lon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923120" y="3168720"/>
            <a:ext cx="6272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ublic burial place fore unknow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ople and for paup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909800" y="3168720"/>
            <a:ext cx="43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potter’s fie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1861920" y="316872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, Too,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918800" y="3168720"/>
            <a:ext cx="59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the different spelling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to (two,too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213048</cp:lastModifiedBy>
  <dcterms:modified xsi:type="dcterms:W3CDTF">2010-05-19T20:14:49Z</dcterms:modified>
  <cp:revision>22</cp:revision>
  <dc:subject/>
  <dc:title>Jeopardy</dc:title>
</cp:coreProperties>
</file>